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BDE0-A6C1-4793-B4D9-90165938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76C-9F15-4367-9185-0671039BF6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B53-150B-4E6B-A0FE-2F495581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780-418D-410F-AA72-EB17307B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570-7F9E-4BF4-8E0F-507CEA8D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A48-62BE-4D5D-8DCD-515FF351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7E8-B4F4-4FCB-8FCF-AFD1062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51C-2C6E-475A-B5BF-226076A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8B8-9800-4C66-8A00-8D8CAD75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FC5-477D-43C1-BBBA-33190F1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A72-B84C-40D0-A757-D0F0ADAB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B23-ED3E-4FE8-B9E2-0704BCC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C59-1EA5-4088-A248-AB64343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515-A8A5-4E84-ADAA-4989C15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CE4-7A35-4117-8EC6-AAF50A2CB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702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0 de marzo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El P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7030a0"/>
                </a:solidFill>
                <a:latin typeface="Arial"/>
              </a:rPr>
              <a:t>L.O: To review stem-changing verb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lta la hoja LOS DEPORTES EN EL MUNDO HISP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a en 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36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¡Viva Argen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distribuida, 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El pa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l unifor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Un parti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48895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hoj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ltura en Vivo: ¡Viva Argentina!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las siguientes se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Po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Comparac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8088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dcterms:modified xsi:type="dcterms:W3CDTF">2016-03-10T19:25:01Z</dcterms:modified>
  <cp:revision>34</cp:revision>
  <dc:subject/>
  <dc:title>Me llamo __________ Clase 6 nh/il La fecha es el 11 de mayo del 2011</dc:title>
</cp:coreProperties>
</file>